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77B5-C615-4F81-8DF0-FE6E4B9E0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36200" y="1752120"/>
            <a:ext cx="5867640" cy="26672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8800" y="4495320"/>
            <a:ext cx="54864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8800" y="5092560"/>
            <a:ext cx="54864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F4DE-2050-4418-BD18-F89C83CB0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36200" y="1752120"/>
            <a:ext cx="5867640" cy="26672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8800" y="4495320"/>
            <a:ext cx="267732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0400" y="4495320"/>
            <a:ext cx="267732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8800" y="5092560"/>
            <a:ext cx="267732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0400" y="5092560"/>
            <a:ext cx="267732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AE07-E7FB-4E4B-993C-E2C2472EB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36200" y="1752120"/>
            <a:ext cx="5867640" cy="26672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8800" y="4495320"/>
            <a:ext cx="176652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3880" y="4495320"/>
            <a:ext cx="176652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39320" y="4495320"/>
            <a:ext cx="176652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8800" y="5092560"/>
            <a:ext cx="176652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3880" y="5092560"/>
            <a:ext cx="176652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39320" y="5092560"/>
            <a:ext cx="176652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E00A-118F-4603-8C73-D6AABB4C5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67B75-A922-4E17-B034-05B3CA22B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36200" y="1752120"/>
            <a:ext cx="5867640" cy="26672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828800" y="4495320"/>
            <a:ext cx="5486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956EB-2C1B-423B-910B-DB2CB961B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36200" y="1752120"/>
            <a:ext cx="5867640" cy="26672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28800" y="449532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4EAEB-5ABA-4D69-8F86-64785910A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36200" y="1752120"/>
            <a:ext cx="5867640" cy="26672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828800" y="4495320"/>
            <a:ext cx="26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0400" y="4495320"/>
            <a:ext cx="26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E87EB-00B8-439A-B356-3EFD05156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36200" y="1752120"/>
            <a:ext cx="5867640" cy="26672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EEB09-5B8F-468A-AB1B-BE3CF3C29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636200" y="1752120"/>
            <a:ext cx="5867640" cy="123649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31EEF-7B27-4231-AA7C-976D9C2ED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36200" y="1752120"/>
            <a:ext cx="5867640" cy="26672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828800" y="4495320"/>
            <a:ext cx="267732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400" y="4495320"/>
            <a:ext cx="26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828800" y="5092560"/>
            <a:ext cx="267732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F6D12-91F3-44A9-BD9E-7C43B8A5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36200" y="1752120"/>
            <a:ext cx="5867640" cy="26672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8800" y="4495320"/>
            <a:ext cx="5486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2914-9023-4D1F-931E-5861C1BFE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36200" y="1752120"/>
            <a:ext cx="5867640" cy="26672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828800" y="4495320"/>
            <a:ext cx="26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0400" y="4495320"/>
            <a:ext cx="267732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0400" y="5092560"/>
            <a:ext cx="267732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444AD-9585-4DBA-8292-61C89135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36200" y="1752120"/>
            <a:ext cx="5867640" cy="26672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828800" y="4495320"/>
            <a:ext cx="267732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0400" y="4495320"/>
            <a:ext cx="267732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828800" y="5092560"/>
            <a:ext cx="54864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6503F-F40E-477F-B1AA-8AB704F3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36200" y="1752120"/>
            <a:ext cx="5867640" cy="26672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828800" y="4495320"/>
            <a:ext cx="54864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828800" y="5092560"/>
            <a:ext cx="54864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0CE42-41D5-43C9-8243-F3D5CD40B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36200" y="1752120"/>
            <a:ext cx="5867640" cy="26672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828800" y="4495320"/>
            <a:ext cx="267732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0400" y="4495320"/>
            <a:ext cx="267732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828800" y="5092560"/>
            <a:ext cx="267732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0400" y="5092560"/>
            <a:ext cx="267732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47360-A908-4B88-8739-5EE5CB730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36200" y="1752120"/>
            <a:ext cx="5867640" cy="26672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828800" y="4495320"/>
            <a:ext cx="176652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83880" y="4495320"/>
            <a:ext cx="176652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539320" y="4495320"/>
            <a:ext cx="176652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828800" y="5092560"/>
            <a:ext cx="176652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83880" y="5092560"/>
            <a:ext cx="176652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539320" y="5092560"/>
            <a:ext cx="176652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97D12-C531-42FD-BADF-FC140C13B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36200" y="1752120"/>
            <a:ext cx="5867640" cy="26672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8800" y="449532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8220-E856-40CE-81E6-E49E5DF03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36200" y="1752120"/>
            <a:ext cx="5867640" cy="26672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8800" y="4495320"/>
            <a:ext cx="26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0400" y="4495320"/>
            <a:ext cx="26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3E4C-F666-4202-BACF-8A3460685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36200" y="1752120"/>
            <a:ext cx="5867640" cy="26672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0AE3-1FA9-4AB9-A284-1D2CEB5FC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36200" y="1752120"/>
            <a:ext cx="5867640" cy="123649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AD6E-101E-4DB7-A348-B4EBE5049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36200" y="1752120"/>
            <a:ext cx="5867640" cy="26672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8800" y="4495320"/>
            <a:ext cx="267732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0400" y="4495320"/>
            <a:ext cx="26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8800" y="5092560"/>
            <a:ext cx="267732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EAFB-9C8E-4A8B-9AD8-54348397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36200" y="1752120"/>
            <a:ext cx="5867640" cy="26672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8800" y="4495320"/>
            <a:ext cx="26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0400" y="4495320"/>
            <a:ext cx="267732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0400" y="5092560"/>
            <a:ext cx="267732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5DF1-9C37-4728-9A26-8074179A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36200" y="1752120"/>
            <a:ext cx="5867640" cy="26672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8800" y="4495320"/>
            <a:ext cx="267732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0400" y="4495320"/>
            <a:ext cx="267732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8800" y="5092560"/>
            <a:ext cx="54864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A1AA-3EC6-415D-8F1C-158DE390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DA478-E844-442E-8B8C-A59AAD815A95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36200" y="1752120"/>
            <a:ext cx="5867640" cy="26672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24350-53B4-4185-B600-845A3223DFB4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Monotype Sorts" charset="2"/>
              <a:buChar char="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09480" y="304920"/>
            <a:ext cx="80168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love to do magic? Well, this contest gives you a chance to create your own magical item. Think of something that you use everyday that isn’t a magic item and turn it into one. For an example, a magical watch that takes you back in time. Draw a picture of the item and then explain what it is and what it does. Turn the picture in to your teacher by Monday, April 28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17:13:12Z</dcterms:created>
  <dc:creator>PA Department of Education</dc:creator>
  <dc:description/>
  <dc:language>en-US</dc:language>
  <cp:lastModifiedBy>PA Department of Education</cp:lastModifiedBy>
  <dcterms:modified xsi:type="dcterms:W3CDTF">2008-04-16T17:53:34Z</dcterms:modified>
  <cp:revision>1</cp:revision>
  <dc:subject/>
  <dc:title>PowerPoint Presentation</dc:title>
</cp:coreProperties>
</file>